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17220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ducational Research: Competencies for Analysis and Application, 9</a:t>
            </a:r>
            <a:r>
              <a:rPr b="0" i="1" lang="en-US" sz="10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th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edi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ay, Mills, &amp; Airas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791320" y="6156360"/>
            <a:ext cx="2209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2009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495680" y="61722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8A24-9B4A-404B-BAC2-D13790A0FCF4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013600" y="6134040"/>
            <a:ext cx="1130400" cy="4190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1219320" y="3808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59436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37840" y="5334120"/>
            <a:ext cx="2416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itle,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9 Pearson Education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886200" y="6286680"/>
            <a:ext cx="113040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hapter 6: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electing Measurement Instrumen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6818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State the relation between a variable and a construct, and distinguish among categories of variables (e.g., categorical and quantitative; dependent and independent) and the scales to measure them (e.g., nominal, ordinal, interval, and ratio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Define measurement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describe ways to interpret measurement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6170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dependent &amp; Dependent Variab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61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variables are those believed to depend on or to be caused by another vari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ent variables are also called criterion varia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variables are the hypothesized cause of the dependent variable. There must be at least two levels of an independent vari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ependent variables are also called an experimental variables, manipulated variables, or treatment varia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aracteristics of Instrumen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three major ways for researchers to collect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esearcher can administer a standardized te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an achievement t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esearcher can administer a self-developed instru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a survey you might devel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esearcher can record naturally-occurring events or use already available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recording off-task behavior of a student in a classro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strumen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5280" y="182880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standardized instruments takes less time than developing an instru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standardized instruments, results from different studies that use the same instrument can be compa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times researchers may need to develop their own instrum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effectively design an instrument one needs expertise and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strumen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are a formal systematic procedure for gathering information about peop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gnitive characteristics (e.g., thinking, abili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fective characteristics (e.g., feelings, attitud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strumen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tandardized test is administered, scored, and interpreted the same way across administr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ACT or SAT or Stanford Achievement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strumen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ssment refers to the process of collecting, synthesizing, and interpreting information, including data from tests as   well as from observ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al or infor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erical or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ement is the process of quantifying   or scoring assessment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curs after 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strumen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ative researchers often use interviews and observ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tative researchers often use paper and pencil (or electronic) metho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methods: The respondent selects from possible answers (e.g., multiple choice test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methods: The respondent has to provide an answer (e.g., essay item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strumen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 assessments emphasize student process and require creation of a product (e.g., completing a project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terpreting Instrument Da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w Sc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r point value of items correct (e.g., 18/20 items correct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-referenced sc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’s performance is compared with performance of others (e.g., grading on a curv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terpreting Instrument Da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iterion-referenced sc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’s performance is compared to preset standard (e.g., class test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f-referenced sc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individual student’s scores change over time is measured (e.g., speeded math facts test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377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electing Measurement Instrumen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Describe the types of measuring instruments used to collect data in qualitative and quantitative studies (e.g., cognitive, affective, and projective test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Define validity, and differentiate among content, criterion-related, construct, and consequential valid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ypes of Instrumen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gnitive tests measure intellectual processes (e.g., thinking, memorizing, calculating, analyzing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d tests measure individual’s current proficiency in given areas of knowledge or skil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d tests are often given as a test battery (e.g., Iowa test of basic skills, CTB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ypes of Instrumen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tests provide scores to facilitate identification of strengths and weaknesses (e.g., tests given for diagnosing reading disabilitie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titude tests measure prediction or potential versus what has been learned (e.g., Wechsler Scale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ffective Instrumen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fective tests measure affective characteristics (e.g., attitude, emotion, interest, personality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itude scales measure what a person believes or fee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kert scales measure agreement on a scal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ongly agree, Agree, Undecided, Disagree, Strongly disag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ffective Instrumen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8960" y="20178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antic differential scales require the individual to indicate attitude by position on a scal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ai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2   1   0   -1   -2   -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ing scales may require a participant to check the most appropriate descri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=always; 4=almost always, 3=sometimes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hurstone Scale &amp; Guttman Scales are also used to measure attitu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dditional Inventor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est inventories assess personal likes and dislikes (e.g., occupational interest inventorie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s tests assess the relative strength of a person’s values (e.g., Study of Values instrument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dditional Inventor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sonality inventories provide participants with statements that describe behaviors characteristic of given personality traits and the participant answers each statement (e.g., MMPI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ctive tests were developed to eliminate some of the concerns with self-report measures. These tests are ambiguous so that presumably the respondent will project true feelings (e.g., Rorschach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riteria for Good Instrumen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refers to the degree that the test measures what it is supposed to meas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is the most important test characteristi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riteria for Good Instrumen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numerous established validity standar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valid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iterion-related valid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urrent valid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dictive valid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 valid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equential valid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73760" cy="10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ntent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04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alidity addresses whether the test measures the intended content are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alidity is an initial screening type of valid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alidity is sometimes referred to as Face Valid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alidity is measured by expert judgment (content validation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8960" y="6170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ntent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alidity is concerned with bo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m validity:  Are the test items measuring the intended conten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pling validity:  Do the items measure the content area being test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example of a lack of content validity is a math test with heavy reading requirements.  It may not only measure math but also reading ability and is therefore not a valid math tes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8377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electing Measurement Instrumen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17524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Explain how to measure reliability, and differentiate among stability, equivalence, equivalence and stability, internal consistency, and scorer/rater reliabil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Identify useful sources of information about specific tests, and provide strategies for test sele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Provide guidelines for test construction and test administr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riterion-Related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iterion-related validity is determined by relating performance on a test to performance on an alternative test or other meas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lation coefficients are used to determine relative valid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riterion-Related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types of criterion-related validity inclu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urrent: The scores on a test are correlated to scores on an alternative test given at the same time (e.g., two measures of reading achievement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dictive: The degree to which a test can predict how well a person will do in a future situation, e.g., GRE, (with predictor represented by GRE score and criterion represented as success in graduate school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nstruct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uct validity is the most important form of valid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uct validity assesses what the test is actually measur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very challenging to establish construct valid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nstruct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uct validity requires confirmatory and disconfirmatory evide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ores on tests should relate to scores on similar tests and NOT relate to scores on other te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scores on a math test should be more highly correlated with scores on another math test than they are to scores from a reading te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nsequenti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equential validity refers to the extent to which an instrument creates harmful effects for the user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tests may harm the test tak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a measure of anxiety may make a person more anxiou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factors that threaten validity inclu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lear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fusing or unclear i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cabulary or required reading ability too difficult for test tak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ive sco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in administ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elf-Report Instrumen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some concerns with data derived from self-report instruments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cern is response set, or the tendency for a participant to respond in a certain way (e.g., social desirabilit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as may also play a role in self-report instruments (e.g., cultural norm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liabil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 refers to the consistency of an instrument to measure a construc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 is expressed as a reliability coefficient based upon a correl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 coefficients should be reported for all measu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 affects valid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several forms of reliabil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liabil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-Retest (Stability) reliability measures the stability of scores over ti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ssess test-retest reliability, a test is given to the same group twice and a correlation is taken between the two sco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rrelation is referred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efficient of Stabil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liabil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e forms (Equivalence) reliability measures the relationship between two versions of a test that are intended to be equival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ssess alternate forms reliability, both tests are given to the same group and the scores on each test are correla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rrelation is referred to as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efficient of Equivale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6170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 &amp; Construc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are the pieces of information you collect and use to examine your topi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must determine what type of data to collec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struct is an abstraction that cannot be observed directly but is invented to explain behavi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intelligence, motivation, 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liabil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valence and stability reliability is represented by the relationship between equivalent versions of a test given at two different tim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ssess equivalence and stability reliability, first one test is given, after a time a similar test is given, and the scores are correla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rrelation is referred to as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efficient of Stability and Equivale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liabil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nsistency reliability represents the extent to which items in a test are similar to one anoth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lit-half: The test is divided into halves and a correlation is taken between the scores on each half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efficient alpha and Kuder-Richardson measure the relationship between and among all items and total scale of a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liabil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orer and rater reliabilities reflect the extent to which independent scorers or a single scorer over time agree on a sco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judge (inter-rater) reliability: Consistency of two or more independent scor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judge (intra-rater) reliability:  Consistency of one person over ti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liabil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Error of Measurement is an estimate of how often one can expect errors of a given size in an individual’s test sco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SD * SQT 1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Standard error of measu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D=Standard deviation of the test sco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the reliability coeffici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23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electing a Tes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your have defined the purpose for your stud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the type of test that you ne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and locate appropriate tes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ich test to use after a comparative analysi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electing a Tes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several locations where one can obtain information and reviews about available tests. These are a good place to start when selecting a tes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Y:  The Mental Measurements Yearbook is the most comprehensive source of test inform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-Ed Publication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TS Test Collection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fessional Journ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ublishers and distribu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23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electing a Tes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74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comparing tests you have located and you are deciding which to use attend to each of the following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examine valid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consider reliabil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ase of test u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 participants have not been previously exposed to the te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 sensitive information is not unnecessarily includ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nstructs &amp; Variab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ucts must be operationally- defined to be observable and measur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s are operationally-defined construc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s are placeholders that can assume any one of a range of valu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s may be measured by instrum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asurement Sca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asurement scale is a system for organizing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ing your measurement scale is necessary to determine the type of analysis you will conduc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asurement Sca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574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inal variables describe categorical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gender, political party affiliation, school attended, marital stat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inal variables are qualitati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tative variables range on a continuum with ordinal, interval, and ratio variab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asurement Sca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6818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dinal variables describe rank order with unequal units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order of finish, ranking of schools or groups a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val variables describe equal intervals between value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chievement, attitude, test sc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asurement Sca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io variables describe all of the characteristics of the other levels but also include a true zero poi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otal number of correct items on a test, time, distance, weigh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ina Robb</cp:lastModifiedBy>
  <dcterms:modified xsi:type="dcterms:W3CDTF">2008-05-15T20:34:02Z</dcterms:modified>
  <cp:revision>62</cp:revision>
  <dc:subject/>
  <dc:title>AutoCAD Architecture 2008: Part I: Getting Started</dc:title>
</cp:coreProperties>
</file>